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9484-A097-45E8-A5F2-81CC614F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8D31-31A1-415D-A9B2-0C71370D4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A7C-0D93-445F-A593-D06AB2B0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C84-FE31-4290-8A56-F44AD1FB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27E674-22DB-46A7-B803-A2311CB4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87A79E-9B94-4A63-97B0-99B69066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E14BA-208D-4DB2-9A44-84DC6C62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81D68-EB7F-4CAB-9A5B-E9581220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15430-9D45-4DF4-A594-3D4B7C0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1228C-5193-4051-8205-B7441FA2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C8E0E-CFF7-42DC-B062-0E4071FB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4BD831-CF40-4B1D-86FF-2580D702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E38D3E-A000-4CC3-8FA1-73B46F81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189-CAA5-4B0A-84FF-31C5058E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762-51CE-4FA6-AEFD-1D9F0B51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F0744-D698-4015-BACD-85ADA0ED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8F178-49AB-4A37-A5E5-0F12197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7E5D-C0BF-40C3-AB40-00262982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70D99-ADB2-441B-B8FC-E09A00A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95FFB-072C-4DC3-B2C3-C27D620C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2D869-6A40-4096-B971-F90577E3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E2224-3F6C-47AA-8FA8-FFD87F4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870-E9CB-4E5D-8519-CA5AE533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5E017-2182-4FA0-9F27-EAE7761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F9FEA-9017-416E-822D-D4CA66A5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AB464-5F16-47BA-A635-201BA9F8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875A-972A-4448-9E0E-DEBA80F8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FA408-81C7-47BD-BFAA-F85372D7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EFD8E-E005-4230-9366-28D5AB32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52B2-ED2C-42F5-B890-FABB4A45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9D9B-CA46-4C62-8030-5F689D5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6611-91F9-449F-9C3C-3C6C3009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8453-F15B-461E-903B-C191B068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76F-9473-48E1-82DE-9F98626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1220-E0C0-4A51-A9EA-5FA096A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91E4-D383-4D16-9678-87CC7F0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3A540-D79C-4F8F-9655-A584BC4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C52C-A6D3-4371-B238-498F9B7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7E90-703D-493C-A4BF-29C1B3A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515E-162B-4DC0-90C7-2202DB8A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E375-4BD0-46A8-A179-1FAC4828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97235-01BA-4AA0-BC88-0B61B881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B8418-C435-4EFE-A87A-04E33437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50FAE-F4CB-4254-8CC9-BE1CE374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BD1-E5C7-4047-99CC-CBDCD11F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D5BDB-91A7-4BF3-831E-28C18931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F7404-E0FC-42E8-8FB9-6C251ADD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26A79-1AF4-4C29-B90C-25678686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E284B-279B-43A3-BE23-C3DF472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87731-5557-4C63-841E-E6A75FC8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529A0-7C23-44B6-B161-7F39378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B3DAB-266F-4F87-8595-BFDB5652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A6797-9C0D-472D-AD5E-F8F643BA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C66DC-6EFB-4684-B33A-6A8FBFEF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78845-658B-4ECF-A1C1-319663BD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BDC-37F7-40EF-A333-524C48A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26A4-3190-44B2-B040-BE429937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FF8F-27A5-49D8-A3D0-9489C043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CB90-A8DE-492A-AD60-96740C40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86C4-C540-40FF-9BAF-C950511A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177CD-7987-4C53-A92E-7611C34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A353-38A2-4338-A141-1B3D8333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DC85-F74E-425E-AFB4-EABD83C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539E-5C30-4DE8-BA06-FB74F30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2CB6-C572-4B08-9CD8-7F0FDD39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0129-FA3C-4C03-B8B7-C71C96C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DE1-0536-4D2F-A908-970B2CD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9EA09-782D-4155-9067-6AC0E0C2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F7B7-C191-4FCA-835E-59146BEA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C9C4D-A8DA-4CEA-85BE-11FAF7E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9B491-D95A-479F-89C9-B885E236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8C63A-A5E7-45DB-BF8B-93D8250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EDFA-C213-413B-AC72-EDDF964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6723-A5EC-44F8-A511-5806E9B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43AA1-8151-4621-9342-498ED8FB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A0134-E3B6-443E-93C8-A8284067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CB57-AC61-44BC-8F98-6811F8B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AE2-DA05-4FE7-950B-1EAD7B5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216F7-95B1-4600-9495-F5747A37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9DDD-C064-4DB9-9E10-F4BD836A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E5647-9744-47C6-B798-AC22C7DC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7199-1608-496F-B448-05F2233A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8B9C6-3894-48B2-B22B-EC95B5F4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C513-11A2-4CCC-8720-53083E94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91C7-E628-425E-BAEC-4CD54C2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F402-A736-4810-A8A7-05D6B02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3DBB6-0EFD-45FB-9C3E-0606563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B351-5EA3-478D-86B5-C87E5C9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FEF-7670-48E4-AD16-E4F063B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DEEF1-D564-4B2E-9C09-CC157CA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01BB-54DF-48A7-9C57-0A0A9095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5D916-CADA-45BB-859F-0CEB41E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15E0-58DA-4061-829C-1B2A58A5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B60D-3215-4E82-A84E-C897B21A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25CE03-59F3-4B01-9CBF-B7394F94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A22C2F-6C75-4422-8485-A42E0035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633E66-060B-441D-8A7B-35F0A1C2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57B8F9-86FF-4408-BD8D-B8F02BE5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FB4AC-98D4-4253-8945-1F95C4E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27F-CA8F-41EB-8CE1-5845D29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9C43D-98F3-41C5-97A0-443DC43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A2D553-9BC6-411F-90FC-B8B7367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50C51-ACF1-4144-8109-BB52660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F0AEE-CD09-4D5F-8DE3-B26A823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31BB3B-5CF9-460C-8139-F25D27EB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2D56A-DF30-4358-85E0-D379B258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AB2C0-3D90-4DF1-AFDA-43A6564C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C9C2E-756B-4460-8EC0-7723C5F8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1A1625-0CE5-40A5-92F5-20413917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FB4396-298C-4A44-A2EB-B2248070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A00E-7FF3-4FAB-9998-9B59014199AC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A9C5-C96A-4770-A4EE-9A50891C900D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FD7E-26BF-4AC4-A39A-7A5CB9D1F0B9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F4E-D174-487A-AFE7-56C44470DBC2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6B96-828E-4406-A010-03A3451F4009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FF0D-2962-46DD-AA2A-47305E4987E5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E31-CF44-4BE6-AB81-37D8D4FB8667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51B3-C3FF-4B2A-80C0-917312AB981E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427C-A94A-45BB-BA24-A1F6C3716A54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ISsLEU4Cld0" TargetMode="External"/><Relationship Id="rId3" Type="http://schemas.openxmlformats.org/officeDocument/2006/relationships/hyperlink" Target="http://www.youtube.com/watch?v=sEuhKRhrvRM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66-148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ystem of ideals and social codes governing the behavior of knights and gentlewo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d taking an oath of loyalty to an overlord and observing certain rules of warfare, such as never attacking an unarmed oppon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Fren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70588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rimary duty of males above serf class was military service to their lord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ge – young boys (around age 7) were sent to the home of a lord to begin training.  They were trained in other homes to ensure the training was strict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ead, write, sing, dance, play the harp, play chess, and rules of good manners by the ladies and the clergyme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ide, wrestle, joust, and use a sword by squir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ire – around age 14; personal servant to a kn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ed the knight dress, served meals, made his bed, carried armo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urtly love – the idea that adoring a lady would make a knight braver and nobler; in its ideal form, courtly love is nonsexua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 knight might wear his lady’s colors in battle, glorify her in words, be inspired by her, but she was always pure and remained out of reach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 – around age 21; huge ceremony; he held an all-night vigil in full arm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olade – 3 strokes with the flat side of a sword (“dubbed”); originally a hard blow meant to test the courage of the pers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ss – gifts given to the knight from his patron knight and gifts from the new knight to his companions and inferi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itle of “Sir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uty of a knight – service to God, his lord, and his la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7088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de for refinement in a rough 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couraged loyalty and cour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lted the position of wome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no account of the common peopl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some virtues to absurd length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ust – 2 knights ride at each other with lances; if either is unhorsed, they continue to fight on foot with swords (think of this as maybe a wrestling match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urney proper – several knights on horseback with swords until one party was defeated or the herald stopped the contest (think of this as a football gam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 – oval enclosure surrounded by two rows of seats (think of this as a stadiu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vilion – located at each end of the list for the opposing knights (think of this as the locker 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alds – presided over tournaments and enforced  rules (think of this as the refere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2"/>
              </a:rPr>
              <a:t>http://www.youtube.com/watch?v=ISsLEU4Cld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3"/>
              </a:rPr>
              <a:t>http://www.youtube.com/watch?v=sEuhKRhrv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mor in the early Middle Ages consisted of a helmet, a shield, and a mail shir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weapons became more deadly, the need for more protection of heavier armor led to compromised flexibility and mobil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rmor was held together by rivets, leather straps, hinges, turning pins, buckles, and peg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 heavily padded undergarment of leather and a mail shirt were worn under the armor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late arm, leg, and foot pieces were also wor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suits weighed 120 pounds and had 200 custom-fitted iron plat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The knight also carried a dagger, a lance, a sword, a battle-ax, and a club-headed mac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lliam, duke of Normandy, and King Harold of Englan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y-long battl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ctober 1066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ear Hastings, Englan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lliam felt Harold had wrongly taken the throne when Edward died, so he went to take back what he felt was rightfully hi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illiam, Duke of Normandy, defeated King Harold of England, the last Saxon king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eginning of the Norman Conques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ddition to the threat of battle, the armor itself could be fa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could die from suffocation, heart failure, heat stroke, even drown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were unable to dress themselv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les were scheduled to give the knights time to dress.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rvants stood nearby in order to help knights who had been unhors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to today’s un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--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Guild – organized to include all those who sold goods in the tow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monopolize the trade of its particular c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afts Guild – organization of artisans of various tra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securing competent workmen and honest produc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vels of Craftsme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pprentice – lived with a master craftsman for 7 years; received no pay, but he was instructed in the art by the master craftsman; supplied with all his necessities; morals guard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ourneyman – if apprentice lacked money to become a master, he could continue to live and work with the master; did receive pa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land except that which was farmed for the lord was treated as one big fa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termined to a large extent the life of the peasan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hurch concerned itself with almost every act of every man, regardless of ran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Lat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illegitimate son of the previous duke of Normand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sin to Edward the Confessor (the king before Harol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dward died childless early in 1066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rold of Wessex was crowned the following da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claimed that the King Edward had promised him the thro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gathered a huge army and sailed across the English Channel to seize what he felt was rightfully h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did not want to conquer the Anglo-Saxons; he just wanted to rule th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use of that, we have a culture and a language that is a combination of Norman and Anglo-Saxon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nglo-Saxons provided more democratic and artistic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Normans provided administrative ability, emphasis on law and order, and cultural un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e of William’s greatest feats was the Doomsday Book – an inventory of nearly every piece of property in England—land, cattle, and building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the first time, people in Europe were taxed on what they own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urvey helped to solidify the feudal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udalism is a social hierarchy that was recognized for centur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was a social system, a caste system, a property system, and a military system.  (A caste system is a system based on birth or wealth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d on a religious concept of rank with God as the supreme overlo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ontent Placeholder 3" descr=""/>
          <p:cNvPicPr/>
          <p:nvPr/>
        </p:nvPicPr>
        <p:blipFill>
          <a:blip r:embed="rId1"/>
          <a:stretch/>
        </p:blipFill>
        <p:spPr>
          <a:xfrm>
            <a:off x="262080" y="360360"/>
            <a:ext cx="8431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requiring that nobles swear loyalty to him, William was establishing the principle of centralized government in Englan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feudal system did not always work.  Occasionally, a vassal might choose not to honor his obligations, and battles between iron-clad knights would break ou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2:53Z</dcterms:created>
  <dc:creator>pcoles</dc:creator>
  <dc:description/>
  <dc:language>en-US</dc:language>
  <cp:lastModifiedBy>pcoles</cp:lastModifiedBy>
  <dcterms:modified xsi:type="dcterms:W3CDTF">2012-09-14T15:19:05Z</dcterms:modified>
  <cp:revision>21</cp:revision>
  <dc:subject/>
  <dc:title>The Middle Ages</dc:title>
</cp:coreProperties>
</file>